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75DC0-5D5D-402F-9FD8-CA9F401C7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AC291-5F33-45F1-A1C6-68861B241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83459-2EAB-485B-B2C8-D77D5AB03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3A120-CE60-4EBC-AC77-2A29D48BE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20044-89C0-4017-A574-F1E70809E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C255F-2A65-4E20-AB31-B9C65ADF1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C0221-E295-4121-9737-BB9DAAD94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F3DF6-7243-4988-BD62-A1656D7CD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54BF4-502D-4FCF-BAC3-A4D496B5A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EE323-C344-44CA-9A40-A72FD962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9B67-0091-47EC-AEFD-B93C019B3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D69E-E3FF-43AB-A6C2-C6915E2AA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921B-2740-4AE7-AC9E-C6EDE1DEDE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You Taste??????</a:t>
            </a:r>
            <a:endParaRPr b="0" lang="en-US" sz="44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the number of taste buds you have make a difference in if you can distinguish vinegar, salt, sugar, sour</a:t>
            </a:r>
            <a:endParaRPr b="0" lang="en-US" sz="32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chose this project because I have been curious about the human tongue and especially the taste buds, and why different people like different stuff</a:t>
            </a:r>
            <a:endParaRPr b="0" lang="en-US" sz="32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predict that the more taste buds you have the better you distinguish them or tell them apart because the more you have overall the more you have in each section.</a:t>
            </a:r>
            <a:endParaRPr b="0" lang="en-US" sz="32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dependent Variable:</a:t>
            </a:r>
            <a:r>
              <a:rPr b="0" lang="en-US" sz="3200" spc="-1" strike="noStrike">
                <a:solidFill>
                  <a:srgbClr val="000000"/>
                </a:solidFill>
                <a:latin typeface="Arial"/>
              </a:rPr>
              <a:t> The Number of Taste Bud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pendent Variable:</a:t>
            </a:r>
            <a:r>
              <a:rPr b="0" lang="en-US" sz="3200" spc="-1" strike="noStrike">
                <a:solidFill>
                  <a:srgbClr val="000000"/>
                </a:solidFill>
                <a:latin typeface="Arial"/>
              </a:rPr>
              <a:t> Whether or not it matt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ntrolled Variable:</a:t>
            </a:r>
            <a:r>
              <a:rPr b="0" lang="en-US" sz="3200" spc="-1" strike="noStrike">
                <a:solidFill>
                  <a:srgbClr val="000000"/>
                </a:solidFill>
                <a:latin typeface="Arial"/>
              </a:rPr>
              <a:t> Everything is constant and tested the same</a:t>
            </a:r>
            <a:endParaRPr b="0" lang="en-US" sz="3200" spc="-1" strike="noStrike">
              <a:solidFill>
                <a:srgbClr val="000000"/>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mon Hea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eg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Color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tton Swab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ps of Note Car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8th Grader</a:t>
            </a:r>
            <a:endParaRPr b="0" lang="en-US" sz="3200" spc="-1" strike="noStrike">
              <a:solidFill>
                <a:srgbClr val="000000"/>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3"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Gather all Material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et the Vinegar, Salt, Sugar, and Lemon Hea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ather up the peopl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est Number of taste buds to see how many they hav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w to test how many taste bu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Using a cotton swab put some food coloring on to the tip of your tongu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lace a reinforcement ring on your tongu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Count the pink dots within the reinforcement ring. This may be easier with a magnifying glas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k dots are your fungiform papillae. They don't take up the food coloring. These papillae are the tiny bumps on your tongue that house your taste buds. The more papillae you have, the more taste buds you have and the more sensitive to taste you are. On average, non-tasters have fewer than 15 papillae in that area, while super tasters have over 30.</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epeat this process for the other peopl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Video tape this proces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Observe the resul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Test for the Vinegar, Salt, Sugar, and Lemon Hea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Observe Resul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Judge Hypothesis </a:t>
            </a:r>
            <a:endParaRPr b="0" lang="en-US" sz="18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33840"/>
        </p:xfrm>
        <a:graphic>
          <a:graphicData uri="http://schemas.openxmlformats.org/drawingml/2006/table">
            <a:tbl>
              <a:tblPr/>
              <a:tblGrid>
                <a:gridCol w="1690560"/>
                <a:gridCol w="1231920"/>
                <a:gridCol w="1230480"/>
                <a:gridCol w="1230120"/>
                <a:gridCol w="1525680"/>
                <a:gridCol w="1320840"/>
              </a:tblGrid>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Na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aste Bud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ucas Belo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Rachel Car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Ba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Kinley Farn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Dro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Wyatt Johns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Powdered 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Brogan Jon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Corn Syru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War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bi Wilifo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anil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Zach Brashe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Drop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Kash Farn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Jui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Michael Hendrick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anner Stalling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rey Wren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rey Bagb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rae Jon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ustin Mye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idan Crosb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Jed Dierks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Cand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ayne Tomm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Ba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Hypothesis was incorrect except for on a few people on all but three people because those three didn’t do a very good job guessing on the Vinegar and the Lemon Heads because sweet and salty are the first two things you taste.</a:t>
            </a:r>
            <a:endParaRPr b="0" lang="en-US" sz="32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6:20:27Z</dcterms:created>
  <dc:creator>USD376</dc:creator>
  <dc:description/>
  <dc:language>en-US</dc:language>
  <cp:lastModifiedBy>USD376</cp:lastModifiedBy>
  <dcterms:modified xsi:type="dcterms:W3CDTF">2010-02-11T15:51:32Z</dcterms:modified>
  <cp:revision>3</cp:revision>
  <dc:subject/>
  <dc:title>Taste Buds</dc:title>
</cp:coreProperties>
</file>